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512-DF54-4E6C-8235-17E9C02E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502-9B9E-4FC0-9081-F3BD4735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D83-70E4-49AC-BAFD-D5B3E2BF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BDF-2FD9-48D4-B096-4CFCB563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E00-5F26-4FDF-B8A9-4C22D8BC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1BD-AE8D-4552-92DE-DE912BF7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834-BB6A-4331-9EFB-CACEF762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7DA-EC9A-452B-950E-B0EC1A0F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BFA-EEE8-4BF3-808E-AD47E585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DF7-4920-4881-A118-3471307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3DB-6534-4967-9D76-726DFDA2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F2F-2EA3-4A23-B2DF-D4F6EC1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4F27-DAE0-412B-81EE-3718D15CD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elle Kell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16276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5851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52131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the Athens and the Spar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117880" y="2587680"/>
            <a:ext cx="4206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46008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436840" y="2971800"/>
            <a:ext cx="39924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62120" y="1976400"/>
            <a:ext cx="720396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0" y="6858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362320" y="9907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Greeks meet and conduct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447920" y="237168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 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119320" y="2743200"/>
            <a:ext cx="39765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438280" y="2620800"/>
            <a:ext cx="4181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65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743280" y="2590920"/>
            <a:ext cx="540072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42292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1241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0:41Z</dcterms:modified>
  <cp:revision>95</cp:revision>
  <dc:subject/>
  <dc:title>Ancient Greece</dc:title>
</cp:coreProperties>
</file>